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104C2-D1C9-4A8D-9A4F-DE30B8BE8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21D9-560F-4B68-ADBE-E327E116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54C21-A4DF-4622-9F39-76BAF9D55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854F5-924E-4FA9-8D64-B8C6C24F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752268-2836-4E1E-B85B-91C01D5AE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4FFEF8-70A5-4890-80CE-18695C73C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DD6657-6ABE-425E-9E0F-EC6F48B6C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33032D-36C3-4720-AA18-B7598B6B1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15A26F-0F9D-41DA-AD90-58E41099A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A7EE8D-04EC-440E-89EB-ED5F72C9C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B60682-AC58-46B5-AF98-40A1FA787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BE57-0DD2-497A-9742-1A9836E2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FED29C-83E3-43C0-B212-8B875AD2E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6D2E0C-2105-4A08-99E5-E4EC0B6C0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4BBFD0-7808-46FD-8ACD-A4189DDA1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B5D0D0-4CC2-4FF2-B4F6-951954D2C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DD533E-4102-4D11-9B86-7A485A264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4C0564-8D9D-4FA2-B085-CF8692056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A2811-7DB1-47EA-A2A8-FD4DCAD29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87F99-956B-49D0-B86B-E225482E2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A64E8-C421-472B-97E8-01200ADA1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1C69A-DAC8-45B3-A7A7-58170EC1F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A31A0-B628-43DB-A31F-23AC2ABF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73B5B-FD7F-49D4-B5C3-B0B6A78D7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2F84A-593C-42C6-BA85-C5D29B9A6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71F90-95ED-40DE-A985-9CA265A01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CE0F2-CD98-473A-A344-FBBC9C2B0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7CE334-F0DC-4E85-BBC4-F90ED9DD9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0666EC-7A3D-4504-B7F3-CCB7599897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26D06-FD3D-40D3-9A4B-377494EA7B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FEE4164-83EF-4434-A969-53CC6EC3C3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199D470-EE76-4FE0-94F4-599ED1A62D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782C534-3E5B-46CC-8512-4255D950FD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3D08-2ABF-4D21-92FA-6247A9F8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555A053-2CCB-4B83-96D6-038FAB5AD0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8E18D3D-7CFF-480B-803A-3E8D2A04E2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1213157-16D0-43E3-AD28-4CE05A6598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958C8DB-A58D-4811-A8EF-364A3EAB57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E26467E-344D-44A5-BF9D-C866207CEA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4633806-C192-43DC-A563-4E415D6568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795BE44-95C8-4607-B7E6-51AE186B3E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C197E69-5C6B-4439-BC24-47DBA3AFD6B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4AA6BE7-7DBC-4F60-A848-D01B7B9AE4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9372-C428-45FE-AF56-B7194020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6043-C8D2-4900-8CA2-E8DBD7D2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D7DB-3802-4F4A-B348-2CD547CA5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14BB-CE6C-4914-80ED-656E5D15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D8F3-1BD2-487E-8CF0-D0B781682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0337-1212-44A1-B4CC-5286A7594E48}"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DBF8-9B21-4458-9962-896BAF132CF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8066-20C1-4B41-9819-03784EE4658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D4FA-88DD-4C45-9C95-F39688F25A97}"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0720" y="1427040"/>
            <a:ext cx="8321760" cy="1992600"/>
          </a:xfrm>
          <a:prstGeom prst="rect">
            <a:avLst/>
          </a:prstGeom>
          <a:ln w="0">
            <a:noFill/>
          </a:ln>
        </p:spPr>
      </p:pic>
      <p:pic>
        <p:nvPicPr>
          <p:cNvPr id="171" name="Picture 2" descr="C:\Users\Bob\AppData\Local\Temp\msohtmlclip1\01\clip_image001.png"/>
          <p:cNvPicPr/>
          <p:nvPr/>
        </p:nvPicPr>
        <p:blipFill>
          <a:blip r:embed="rId2"/>
          <a:stretch/>
        </p:blipFill>
        <p:spPr>
          <a:xfrm>
            <a:off x="378000" y="225360"/>
            <a:ext cx="8772480" cy="5261040"/>
          </a:xfrm>
          <a:prstGeom prst="rect">
            <a:avLst/>
          </a:prstGeom>
          <a:ln w="0">
            <a:noFill/>
          </a:ln>
        </p:spPr>
      </p:pic>
      <p:sp>
        <p:nvSpPr>
          <p:cNvPr id="172" name="Subtitle 2"/>
          <p:cNvSpPr/>
          <p:nvPr/>
        </p:nvSpPr>
        <p:spPr>
          <a:xfrm>
            <a:off x="609480" y="5181480"/>
            <a:ext cx="8305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Constantia"/>
              </a:rPr>
              <a:t>Intel Essentials</a:t>
            </a:r>
            <a:endParaRPr b="0" lang="en-US" sz="40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Constantia"/>
              </a:rPr>
              <a:t>Spring 2009</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9907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Content Questions</a:t>
            </a:r>
            <a:endParaRPr b="0" lang="en-US" sz="3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o are some of the prominent people buried in our community’s cemete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 what time periods do the cemetery’s graves fi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were the dates of the earliest grave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do symbols on tombstones mea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ke inferences about our community based on the data you collect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materials were used in the making of the tombstones.</a:t>
            </a:r>
            <a:endParaRPr b="0" lang="en-US" sz="2400" spc="-1" strike="noStrike">
              <a:solidFill>
                <a:srgbClr val="fefac9"/>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I want to learn from my stud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will the assessment information help me and my students pla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feedback/additional ideas would I lik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2" name="Title 1" descr=""/>
          <p:cNvPicPr/>
          <p:nvPr/>
        </p:nvPicPr>
        <p:blipFill>
          <a:blip r:embed="rId1"/>
          <a:stretch/>
        </p:blipFill>
        <p:spPr>
          <a:xfrm>
            <a:off x="219240" y="146160"/>
            <a:ext cx="85168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C:\Users\Bob\Pictures\Microsoft Clip Organizer\j0364682.wmf"/>
          <p:cNvPicPr/>
          <p:nvPr/>
        </p:nvPicPr>
        <p:blipFill>
          <a:blip r:embed="rId1"/>
          <a:stretch/>
        </p:blipFill>
        <p:spPr>
          <a:xfrm>
            <a:off x="6954840" y="73080"/>
            <a:ext cx="2274840" cy="2378160"/>
          </a:xfrm>
          <a:prstGeom prst="rect">
            <a:avLst/>
          </a:prstGeom>
          <a:ln w="0">
            <a:noFill/>
          </a:ln>
        </p:spPr>
      </p:pic>
      <p:sp>
        <p:nvSpPr>
          <p:cNvPr id="174"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thin each community, cemeteries are among the most fascinating, richest, and often the most neglected sources of historical information. The age of the community, its ethnic composition and the impact made by immigration can be determined by "reading" gravestones. The style of headstones, the symbolism of their art, and their inscriptions reflect religious beliefs, social class and values, as well as cultural change over time. The cemetery field trip and the related classroom activities described in this lesson will allow students to tap this source of information and thus gain a better understanding of their community.</a:t>
            </a:r>
            <a:endParaRPr b="0" lang="en-US" sz="2600" spc="-1" strike="noStrike">
              <a:solidFill>
                <a:srgbClr val="ffffff"/>
              </a:solidFill>
              <a:latin typeface="Constantia"/>
            </a:endParaRPr>
          </a:p>
        </p:txBody>
      </p:sp>
      <p:pic>
        <p:nvPicPr>
          <p:cNvPr id="175"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28240" y="837720"/>
            <a:ext cx="8915400" cy="49532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meteries are wonderful teaching tools. A cemetery  is an outdoor history museum, wildlife refuge,  botanical garden and art gallery. They are easily  accessible and interdisciplinary. In this cemetery exploration, students will use their skills in social studies, science, art, math, history and language art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urpose of studying a cemetery is to encourage an </a:t>
            </a:r>
            <a:br>
              <a:rPr sz="2600"/>
            </a:br>
            <a:r>
              <a:rPr b="0" lang="en-US" sz="2600" spc="-1" strike="noStrike">
                <a:solidFill>
                  <a:srgbClr val="ffffff"/>
                </a:solidFill>
                <a:latin typeface="Constantia"/>
              </a:rPr>
              <a:t>appreciation of its unique historical significance.  History "comes alive" when students realize that the  people buried there actually lived and helped make  their community what it is today. </a:t>
            </a:r>
            <a:endParaRPr b="0" lang="en-US" sz="2600" spc="-1" strike="noStrike">
              <a:solidFill>
                <a:srgbClr val="ffffff"/>
              </a:solidFill>
              <a:latin typeface="Constantia"/>
            </a:endParaRPr>
          </a:p>
        </p:txBody>
      </p:sp>
      <p:pic>
        <p:nvPicPr>
          <p:cNvPr id="177" name="Picture 3" descr="C:\Users\Bob\Pictures\Microsoft Clip Organizer\j0238641.wmf"/>
          <p:cNvPicPr/>
          <p:nvPr/>
        </p:nvPicPr>
        <p:blipFill>
          <a:blip r:embed="rId1"/>
          <a:stretch/>
        </p:blipFill>
        <p:spPr>
          <a:xfrm>
            <a:off x="7010280" y="5334120"/>
            <a:ext cx="175752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9907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studying the ages, names, symbols and epitaphs in a cemetery,  students can learn about their community's ethnic, cultural, religious and historical background.  A cemetery is a tangible link to the past, and a place  that is sacred. When students understand the  importance of cemeteries, they are more likely to  become adults who will participate in the responsible  conservation of cemeteries in their communitie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79" name="Picture 2" descr="C:\Users\Bob\Pictures\Microsoft Clip Organizer\j0384798.jpg"/>
          <p:cNvPicPr/>
          <p:nvPr/>
        </p:nvPicPr>
        <p:blipFill>
          <a:blip r:embed="rId1"/>
          <a:stretch/>
        </p:blipFill>
        <p:spPr>
          <a:xfrm>
            <a:off x="603360" y="3956040"/>
            <a:ext cx="1596960" cy="26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 want to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Utilize web 2.0 tools (wikis, blogs) more effectively in lesson desig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hance my instructional design skills to include a more constructivist approach to teach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pic>
        <p:nvPicPr>
          <p:cNvPr id="181" name="Title 1" descr=""/>
          <p:cNvPicPr/>
          <p:nvPr/>
        </p:nvPicPr>
        <p:blipFill>
          <a:blip r:embed="rId1"/>
          <a:stretch/>
        </p:blipFill>
        <p:spPr>
          <a:xfrm>
            <a:off x="219240" y="146160"/>
            <a:ext cx="8474040" cy="1231920"/>
          </a:xfrm>
          <a:prstGeom prst="rect">
            <a:avLst/>
          </a:prstGeom>
          <a:ln w="0">
            <a:noFill/>
          </a:ln>
        </p:spPr>
      </p:pic>
      <p:pic>
        <p:nvPicPr>
          <p:cNvPr id="182" name="Picture 3" descr="Untitled.jpg"/>
          <p:cNvPicPr/>
          <p:nvPr/>
        </p:nvPicPr>
        <p:blipFill>
          <a:blip r:embed="rId2"/>
          <a:stretch/>
        </p:blipFill>
        <p:spPr>
          <a:xfrm>
            <a:off x="3882960" y="3651120"/>
            <a:ext cx="1658880" cy="28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 want my students…</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come independent learner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 responsible for monitoring their own learning</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 able work cooperatively with other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realize that learning can occur in a variety of situation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realize that learning is not an isolated event…there are interconnections between different subject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utilize skills learned in the classroom in a real world situation</a:t>
            </a:r>
            <a:endParaRPr b="0" lang="en-US" sz="2400" spc="-1" strike="noStrike">
              <a:solidFill>
                <a:srgbClr val="fefac9"/>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pre-assessing my students’ skills…</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 will know their needs with regard to specific academic skills in math, social studies, language arts, and sc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 will know their attitudes toward the project I am presenting</a:t>
            </a:r>
            <a:endParaRPr b="0" lang="en-US" sz="2400" spc="-1" strike="noStrike">
              <a:solidFill>
                <a:srgbClr val="fefac9"/>
              </a:solidFill>
              <a:latin typeface="Constantia"/>
            </a:endParaRPr>
          </a:p>
        </p:txBody>
      </p:sp>
      <p:pic>
        <p:nvPicPr>
          <p:cNvPr id="186" name="Title 1" descr=""/>
          <p:cNvPicPr/>
          <p:nvPr/>
        </p:nvPicPr>
        <p:blipFill>
          <a:blip r:embed="rId1"/>
          <a:stretch/>
        </p:blipFill>
        <p:spPr>
          <a:xfrm>
            <a:off x="255600" y="23760"/>
            <a:ext cx="869328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Essential Question:</a:t>
            </a:r>
            <a:endParaRPr b="0" lang="en-US" sz="3600" spc="-1" strike="noStrike">
              <a:solidFill>
                <a:srgbClr val="ffffff"/>
              </a:solidFill>
              <a:latin typeface="Constantia"/>
            </a:endParaRPr>
          </a:p>
          <a:p>
            <a:pPr lvl="1" marL="639720" indent="-2728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fac9"/>
                </a:solidFill>
                <a:latin typeface="Engravers MT"/>
              </a:rPr>
              <a:t>How is the future shaped by the past and the present? </a:t>
            </a:r>
            <a:endParaRPr b="0" lang="en-US" sz="4800" spc="-1" strike="noStrike">
              <a:solidFill>
                <a:srgbClr val="fefac9"/>
              </a:solidFill>
              <a:latin typeface="Constantia"/>
            </a:endParaRPr>
          </a:p>
        </p:txBody>
      </p:sp>
      <p:pic>
        <p:nvPicPr>
          <p:cNvPr id="188"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14300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Unit Questions</a:t>
            </a:r>
            <a:endParaRPr b="0" lang="en-US" sz="3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information can be found from a cemetery?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How can this information teach us about our community?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can we learn from cemeteries?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an tombstone symbology give us clues to people’s histori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5:57:29Z</dcterms:created>
  <dc:creator>Bob Wright</dc:creator>
  <dc:description/>
  <dc:language>en-US</dc:language>
  <cp:lastModifiedBy>Bob Wright</cp:lastModifiedBy>
  <dcterms:modified xsi:type="dcterms:W3CDTF">2009-04-16T21:43:06Z</dcterms:modified>
  <cp:revision>13</cp:revision>
  <dc:subject/>
  <dc:title>My Unit Plan Presentation</dc:title>
</cp:coreProperties>
</file>